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B297-82D6-4FD5-8964-52A1A11692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good M&amp;E plan in the proposal, it should be able to answer all of thes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through this and pass out handout of this. Explain that the next group activity will be using this as a point of discussion to asses own M&amp;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ach of the following points corresponds to one of the points on the slide ab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rong M&amp;E system you can ensure that indicators and methodologies are comparable over time and reduce duplication of effort. This is particularly important where resources are scar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P often need to report to various constituents (program managers, politicians, donors, researchers, etc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simply serving the reporting needs of agencies or legislatures overs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, nurses, community outreach, etc… requires shared planning, coordination execution and analysis, or data disse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lready done steps 1 and 2; this presentation and following group activity will focus on  steps 3 and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is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M&amp;E framewor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did this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nci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get of 5-7% of gra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within NTP, significant government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an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&amp;E expertise leading and involved in the unit (program monitoring, information systems, epidemiology, statistics, data processing, and social science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volvement of academia (epidemiology, social sciences, commun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ment of key NGOs, donors and internation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t is essential to work within the existing system and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E32-D17D-43BE-9289-C1D99D99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454-A5A0-480B-92A6-9E0A823B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DD2-4543-47C7-85A0-627635BA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4D9-338E-4650-AD1E-E57DF3C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BB3-6B20-4515-837E-D0AA945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DEF-6D23-42C4-A4F4-E2AA476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130-3297-41C7-A5C6-DCBBCEAB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F8F-5DEE-45D5-A2A0-5B77189C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A05-9CD3-40B2-88BE-3AC57C1A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51D-F547-4763-9042-44E4F79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F1A-15DA-4921-8358-7606CA38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721-733C-4FD3-971A-01571D5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F8E6-4518-424D-9E4A-9074E5986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42200" y="6019920"/>
            <a:ext cx="1807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553080"/>
            <a:ext cx="8429400" cy="1800"/>
          </a:xfrm>
          <a:custGeom>
            <a:avLst/>
            <a:gdLst/>
            <a:ahLst/>
            <a:rect l="l" t="t" r="r" b="b"/>
            <a:pathLst>
              <a:path w="5310" h="1">
                <a:moveTo>
                  <a:pt x="0" y="0"/>
                </a:moveTo>
                <a:lnTo>
                  <a:pt x="531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9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11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prehensive M&amp;E Systems</a:t>
            </a: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ying Resources to Support Monitoring &amp; Evaluation Plans for National TB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Mechanisms for  Management and Quality Control of M&amp;E Activities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, adapt nat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dicators and repor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out regular assessments of quality of M&amp;E reporting at district (and regional) level and sectors (bi-annual system, each year half of the distri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out regular assessments of quality of program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edback mechanis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&amp;E System Cos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of Thumb is 10% of program budget (GFATM says 5-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ituation Analysis and Design of M&amp;E plan       for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trengthening of M&amp;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outin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ata Management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uild Capacity for Analysis and U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Quality Control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pecial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iorities for M&amp;E Systems Development and Strengthen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implement the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data be col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data be analyzed and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quality be ensu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ecklist of a Good M&amp;E Syst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380880"/>
          <a:ext cx="9067680" cy="683748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E UN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nit or individual within the central unit of the program who is responsible for M&amp;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gnificant contribution to the national M&amp;E bud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national and local research institutions, professional associations, and academic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leading NGOs, donors, and community-based organiz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ist and/or social science expertise in the M&amp;E unit or affiliated with the 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rocessing and statistical expertise in the M&amp;E unit or affiliated with the 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expertise in the M&amp;E unit or affiliated with the uni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-defined national program goals and targe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reviews/evaluations of the progress of the implementation of the national program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and guidance to districts and regions or provinces for M&amp;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for linking M&amp;E to other se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nee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t of priority indicators and additional indicators at different levels of M&amp;E, some of which are comparable over time and with other countr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ollection, Analysis, and U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-collection and analysis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collect data and analyze indicators at different levels of M&amp;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wide knowledge and capacity (e.g., tools and budget) to collect and use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supervise, support, and ensure the quality of data col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ensure the translation of data into problem identification, strategic planning, policy formulation, etc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 dissemination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ell-disseminated, informative annual report of the M&amp;E 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meetings to disseminate and discuss M&amp;E and research findings with policy-makers and plan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learinghouse for generation and dissemination of find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entralized database or library of all data collection, including ongoing re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dissemination need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ATM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and Evaluation Toolkit HIV/AIDS, Tuberculosis and 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 Tuberculosis Control: Surveillance, Planning, Financing. WHO Report 200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/IUATLD (2005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-TB Drug Resistance Surveillance in the World. Report No.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ndium of Indicators for Monitoring and Evaluating National Tuberculosis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1998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berculosis Hand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F Research Network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on Research Protoco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and Evaluating the Health System-wide Effects of the Global Fund to Fight AIDS, Tuberculosis and Mal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Plus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ystem Wide Effects of The Global Fund : A Conceptual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Analysis (2005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ventory of M&amp;E practices and systems for global health 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ow can a comprehensive M&amp;E system support the NTP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use of data and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to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 that donor-funded M&amp;E efforts contribute to nation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mmunication between all those responsible for addressing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bjectives of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ccountability and management of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and effectively us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coordination with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plete and timely information on   national effort to control tubercu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eps to strengthen and implement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) M&amp;E Situati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2.) Develop M&amp;E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Establish/Strengthen M&amp;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Implementation of M&amp;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Mechanisms for  Management and Quality Control of M&amp;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3333cc"/>
                </a:solidFill>
                <a:latin typeface="Arial"/>
              </a:rPr>
              <a:t>M&amp;E Situation Analysis</a:t>
            </a:r>
            <a:endParaRPr b="0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xisting M&amp;E practices, indicators, and data sources already being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aps where indicators will need to be developed and data sources identified for the M&amp;E plan of the national TB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national M&amp;E capacity and needs for capacit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for integration of TB M&amp;E into national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M&amp;E Situation Analys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 review: essenti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national level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regional- and district-level stakeholders, including community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data users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2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Develop a M&amp;E pla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lear goals and objectives to meet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nd/or develop indicators to measur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data sources and ensure collection is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ose responsible for data analysis, use, and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ep 3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tablish/Strengthen M&amp;E Uni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within the NTP or implementin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adequate financi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engthen Human Capa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Implementation of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&amp;E Pla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rategy to build and maintain M&amp;E capacity at national and sub-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forms and guidelines for M&amp;E at differ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ith national and international  M&amp;E experts to support implementation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f staff at differ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ina Population Center</cp:lastModifiedBy>
  <dcterms:modified xsi:type="dcterms:W3CDTF">2006-11-08T22:18:15Z</dcterms:modified>
  <cp:revision>8</cp:revision>
  <dc:subject/>
  <dc:title>PowerPoint Presentation</dc:title>
</cp:coreProperties>
</file>